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046-CB6C-4ECA-A486-135099D8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721-1428-4CAD-84E4-6BF2858A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6E8-2220-4437-AC28-7373F5F2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7D4-636E-4C3E-9599-037A3A29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3B3-BA9D-4BF5-A817-6F6F0D37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393-0080-4C5F-BB92-D2B7F0F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9DD-34DF-4FF7-8373-72189C4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6D3-D029-400D-A714-683EC5E7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926-2D61-4395-B537-8CA79D26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C39-4CBE-4255-9A47-82C7AD50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D90-FB6A-46C2-B16C-90E60B04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F32-7BF7-4874-BF9E-D9B2170E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33CF-A1E3-4CD4-85A4-B13E2729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meepmeep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meepmee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jetflyby2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audio" Target="../media/jetflyby2.wav"/><Relationship Id="rId39" Type="http://schemas.openxmlformats.org/officeDocument/2006/relationships/audio" Target="../media/jetflyby2.wav"/><Relationship Id="rId40" Type="http://schemas.openxmlformats.org/officeDocument/2006/relationships/audio" Target="../media/zapbig0g.wav"/><Relationship Id="rId41" Type="http://schemas.openxmlformats.org/officeDocument/2006/relationships/audio" Target="../media/zapbig0g.wav"/><Relationship Id="rId42" Type="http://schemas.openxmlformats.org/officeDocument/2006/relationships/audio" Target="../media/zapbig0g.wav"/><Relationship Id="rId43" Type="http://schemas.openxmlformats.org/officeDocument/2006/relationships/audio" Target="../media/zapbig0g.wav"/><Relationship Id="rId44" Type="http://schemas.openxmlformats.org/officeDocument/2006/relationships/audio" Target="../media/zapbig0g.wav"/><Relationship Id="rId45" Type="http://schemas.openxmlformats.org/officeDocument/2006/relationships/audio" Target="../media/jetflyby2.wav"/><Relationship Id="rId46" Type="http://schemas.openxmlformats.org/officeDocument/2006/relationships/audio" Target="../media/jetflyby2.wav"/><Relationship Id="rId47" Type="http://schemas.openxmlformats.org/officeDocument/2006/relationships/audio" Target="../media/jetflyby2.wav"/><Relationship Id="rId48" Type="http://schemas.openxmlformats.org/officeDocument/2006/relationships/audio" Target="../media/jetflyby2.wav"/><Relationship Id="rId49" Type="http://schemas.openxmlformats.org/officeDocument/2006/relationships/audio" Target="../media/jetflyby2.wav"/><Relationship Id="rId50" Type="http://schemas.openxmlformats.org/officeDocument/2006/relationships/audio" Target="../media/zapbig0g.wav"/><Relationship Id="rId51" Type="http://schemas.openxmlformats.org/officeDocument/2006/relationships/audio" Target="../media/zapbig0g.wav"/><Relationship Id="rId52" Type="http://schemas.openxmlformats.org/officeDocument/2006/relationships/audio" Target="../media/zapbig0g.wav"/><Relationship Id="rId53" Type="http://schemas.openxmlformats.org/officeDocument/2006/relationships/audio" Target="../media/zapbig0g.wav"/><Relationship Id="rId54" Type="http://schemas.openxmlformats.org/officeDocument/2006/relationships/audio" Target="../media/zapbig0g.wav"/><Relationship Id="rId55" Type="http://schemas.openxmlformats.org/officeDocument/2006/relationships/audio" Target="../media/caralarmoff.wav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58880" y="1820880"/>
                <a:ext cx="132696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03320" y="3865680"/>
                <a:ext cx="566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98600" y="3860640"/>
                <a:ext cx="517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648240" y="3841920"/>
                <a:ext cx="106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20560" y="1835280"/>
                <a:ext cx="171936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58880" y="3840120"/>
                <a:ext cx="82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4784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906720" y="3843360"/>
                <a:ext cx="142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97160" y="39988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9200" y="1835280"/>
                <a:ext cx="206208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66840" y="3854520"/>
                <a:ext cx="1288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70160" y="3860640"/>
                <a:ext cx="1241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37200" y="3857760"/>
                <a:ext cx="4276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66666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30520" y="39988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59240" y="4692600"/>
                <a:ext cx="1985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Use the calculator to write a decimal for each fraction or mixed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2360" y="1835280"/>
                <a:ext cx="21114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646280" y="3963960"/>
                <a:ext cx="566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51240" y="3860640"/>
                <a:ext cx="879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3080" y="2087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o write as a decimal, just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429000" y="3962520"/>
                <a:ext cx="61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076640" y="3884760"/>
                <a:ext cx="517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440320" y="3895560"/>
                <a:ext cx="142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00520" y="403704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0344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reddie can take two friends to a movie. He has 5 friends: Jose, Luis, Monica, Cheryl, and Diane. He wants to take 1 boy and 1 girl. How many pairs of friends can he choose from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514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dd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6720" y="2540160"/>
            <a:ext cx="10954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3640" y="2560680"/>
            <a:ext cx="10954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1120" y="365760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43200" y="543564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03680" y="30988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0160" y="3659040"/>
            <a:ext cx="14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03680" y="424800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97200" y="487692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3680" y="543708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7200" y="602604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2" idx="3"/>
            <a:endCxn id="85" idx="1"/>
          </p:cNvCxnSpPr>
          <p:nvPr/>
        </p:nvCxnSpPr>
        <p:spPr>
          <a:xfrm flipV="1">
            <a:off x="1471680" y="3947400"/>
            <a:ext cx="380160" cy="894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2" idx="3"/>
            <a:endCxn id="86" idx="1"/>
          </p:cNvCxnSpPr>
          <p:nvPr/>
        </p:nvCxnSpPr>
        <p:spPr>
          <a:xfrm>
            <a:off x="1471680" y="4842000"/>
            <a:ext cx="372240" cy="884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3"/>
            <a:endCxn id="87" idx="1"/>
          </p:cNvCxnSpPr>
          <p:nvPr/>
        </p:nvCxnSpPr>
        <p:spPr>
          <a:xfrm flipV="1">
            <a:off x="2757600" y="3389400"/>
            <a:ext cx="946800" cy="55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5" idx="3"/>
            <a:endCxn id="88" idx="1"/>
          </p:cNvCxnSpPr>
          <p:nvPr/>
        </p:nvCxnSpPr>
        <p:spPr>
          <a:xfrm>
            <a:off x="2757600" y="3948120"/>
            <a:ext cx="953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5" idx="3"/>
            <a:endCxn id="89" idx="1"/>
          </p:cNvCxnSpPr>
          <p:nvPr/>
        </p:nvCxnSpPr>
        <p:spPr>
          <a:xfrm>
            <a:off x="2757600" y="3948120"/>
            <a:ext cx="94680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6" idx="3"/>
            <a:endCxn id="90" idx="1"/>
          </p:cNvCxnSpPr>
          <p:nvPr/>
        </p:nvCxnSpPr>
        <p:spPr>
          <a:xfrm flipV="1">
            <a:off x="2749680" y="5167440"/>
            <a:ext cx="948240" cy="55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6" idx="3"/>
            <a:endCxn id="91" idx="1"/>
          </p:cNvCxnSpPr>
          <p:nvPr/>
        </p:nvCxnSpPr>
        <p:spPr>
          <a:xfrm>
            <a:off x="2749680" y="5726160"/>
            <a:ext cx="954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6" idx="3"/>
            <a:endCxn id="92" idx="1"/>
          </p:cNvCxnSpPr>
          <p:nvPr/>
        </p:nvCxnSpPr>
        <p:spPr>
          <a:xfrm>
            <a:off x="2749680" y="5726160"/>
            <a:ext cx="9482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6213600" y="2151000"/>
            <a:ext cx="26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6 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1000" y="306396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1000" y="369576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1000" y="428292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 and 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31000" y="488628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M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547200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Cher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31000" y="602928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is and Di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03440"/>
            <a:ext cx="3149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rmando has 2 shirts, 2 suits, and 5 ties. How many outfits can he mak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510696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773280"/>
            <a:ext cx="95400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5200" y="739800"/>
            <a:ext cx="8780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05360" y="435780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56120" y="577368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43880" y="414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50000" y="44323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43880" y="4716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0" idx="3"/>
            <a:endCxn id="113" idx="1"/>
          </p:cNvCxnSpPr>
          <p:nvPr/>
        </p:nvCxnSpPr>
        <p:spPr>
          <a:xfrm flipV="1">
            <a:off x="5484960" y="4647600"/>
            <a:ext cx="32112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0" idx="3"/>
            <a:endCxn id="114" idx="1"/>
          </p:cNvCxnSpPr>
          <p:nvPr/>
        </p:nvCxnSpPr>
        <p:spPr>
          <a:xfrm>
            <a:off x="5484600" y="5397480"/>
            <a:ext cx="3718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3" idx="3"/>
            <a:endCxn id="115" idx="1"/>
          </p:cNvCxnSpPr>
          <p:nvPr/>
        </p:nvCxnSpPr>
        <p:spPr>
          <a:xfrm flipV="1">
            <a:off x="6972120" y="4376520"/>
            <a:ext cx="67212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3" idx="3"/>
            <a:endCxn id="116" idx="1"/>
          </p:cNvCxnSpPr>
          <p:nvPr/>
        </p:nvCxnSpPr>
        <p:spPr>
          <a:xfrm>
            <a:off x="6972480" y="4647960"/>
            <a:ext cx="6778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3" idx="3"/>
            <a:endCxn id="117" idx="1"/>
          </p:cNvCxnSpPr>
          <p:nvPr/>
        </p:nvCxnSpPr>
        <p:spPr>
          <a:xfrm>
            <a:off x="6972120" y="4648320"/>
            <a:ext cx="672120" cy="297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76200" y="3440160"/>
            <a:ext cx="26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33"/>
                </a:solidFill>
                <a:latin typeface="Times New Roman"/>
              </a:rPr>
              <a:t>20 pai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86560" y="558720"/>
            <a:ext cx="8780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4400" y="38656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3" idx="3"/>
            <a:endCxn id="125" idx="1"/>
          </p:cNvCxnSpPr>
          <p:nvPr/>
        </p:nvCxnSpPr>
        <p:spPr>
          <a:xfrm flipV="1">
            <a:off x="6972480" y="4093560"/>
            <a:ext cx="69264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7648560" y="4984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3" idx="3"/>
            <a:endCxn id="127" idx="1"/>
          </p:cNvCxnSpPr>
          <p:nvPr/>
        </p:nvCxnSpPr>
        <p:spPr>
          <a:xfrm>
            <a:off x="6972480" y="4648320"/>
            <a:ext cx="67680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7651800" y="5564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58280" y="5848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51800" y="6132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4" idx="3"/>
            <a:endCxn id="129" idx="1"/>
          </p:cNvCxnSpPr>
          <p:nvPr/>
        </p:nvCxnSpPr>
        <p:spPr>
          <a:xfrm flipV="1">
            <a:off x="7023240" y="5792400"/>
            <a:ext cx="62928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14" idx="3"/>
            <a:endCxn id="130" idx="1"/>
          </p:cNvCxnSpPr>
          <p:nvPr/>
        </p:nvCxnSpPr>
        <p:spPr>
          <a:xfrm>
            <a:off x="7023240" y="6063840"/>
            <a:ext cx="6357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14" idx="3"/>
            <a:endCxn id="131" idx="1"/>
          </p:cNvCxnSpPr>
          <p:nvPr/>
        </p:nvCxnSpPr>
        <p:spPr>
          <a:xfrm>
            <a:off x="7023240" y="6063840"/>
            <a:ext cx="629280" cy="297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7672320" y="52815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4" idx="3"/>
            <a:endCxn id="135" idx="1"/>
          </p:cNvCxnSpPr>
          <p:nvPr/>
        </p:nvCxnSpPr>
        <p:spPr>
          <a:xfrm flipV="1">
            <a:off x="7022880" y="5509440"/>
            <a:ext cx="64980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7656480" y="64008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4" idx="3"/>
            <a:endCxn id="137" idx="1"/>
          </p:cNvCxnSpPr>
          <p:nvPr/>
        </p:nvCxnSpPr>
        <p:spPr>
          <a:xfrm>
            <a:off x="7022880" y="6064200"/>
            <a:ext cx="63396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013280" y="2282760"/>
            <a:ext cx="14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5360" y="153360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6120" y="294948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i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43880" y="13240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0000" y="16081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43880" y="18921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3"/>
            <a:endCxn id="140" idx="1"/>
          </p:cNvCxnSpPr>
          <p:nvPr/>
        </p:nvCxnSpPr>
        <p:spPr>
          <a:xfrm flipV="1">
            <a:off x="5484960" y="1823400"/>
            <a:ext cx="321120" cy="749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9" idx="3"/>
            <a:endCxn id="141" idx="1"/>
          </p:cNvCxnSpPr>
          <p:nvPr/>
        </p:nvCxnSpPr>
        <p:spPr>
          <a:xfrm>
            <a:off x="5484600" y="2573280"/>
            <a:ext cx="371880" cy="667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2" idx="1"/>
          </p:cNvCxnSpPr>
          <p:nvPr/>
        </p:nvCxnSpPr>
        <p:spPr>
          <a:xfrm flipV="1">
            <a:off x="6972120" y="1552320"/>
            <a:ext cx="67212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0" idx="3"/>
            <a:endCxn id="143" idx="1"/>
          </p:cNvCxnSpPr>
          <p:nvPr/>
        </p:nvCxnSpPr>
        <p:spPr>
          <a:xfrm>
            <a:off x="6972480" y="1823760"/>
            <a:ext cx="67788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0" idx="3"/>
            <a:endCxn id="144" idx="1"/>
          </p:cNvCxnSpPr>
          <p:nvPr/>
        </p:nvCxnSpPr>
        <p:spPr>
          <a:xfrm>
            <a:off x="6972120" y="1824120"/>
            <a:ext cx="672120" cy="297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7664400" y="10414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0" idx="3"/>
            <a:endCxn id="150" idx="1"/>
          </p:cNvCxnSpPr>
          <p:nvPr/>
        </p:nvCxnSpPr>
        <p:spPr>
          <a:xfrm flipV="1">
            <a:off x="6972480" y="1269360"/>
            <a:ext cx="69264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7648560" y="21607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0" idx="3"/>
            <a:endCxn id="152" idx="1"/>
          </p:cNvCxnSpPr>
          <p:nvPr/>
        </p:nvCxnSpPr>
        <p:spPr>
          <a:xfrm>
            <a:off x="6972480" y="1824120"/>
            <a:ext cx="67680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651800" y="27399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8280" y="302436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51800" y="3308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1" idx="3"/>
            <a:endCxn id="154" idx="1"/>
          </p:cNvCxnSpPr>
          <p:nvPr/>
        </p:nvCxnSpPr>
        <p:spPr>
          <a:xfrm flipV="1">
            <a:off x="7023240" y="2968200"/>
            <a:ext cx="629280" cy="27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1" idx="3"/>
            <a:endCxn id="155" idx="1"/>
          </p:cNvCxnSpPr>
          <p:nvPr/>
        </p:nvCxnSpPr>
        <p:spPr>
          <a:xfrm>
            <a:off x="7023240" y="3240000"/>
            <a:ext cx="635760" cy="136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1" idx="3"/>
            <a:endCxn id="156" idx="1"/>
          </p:cNvCxnSpPr>
          <p:nvPr/>
        </p:nvCxnSpPr>
        <p:spPr>
          <a:xfrm>
            <a:off x="7023240" y="3239640"/>
            <a:ext cx="629280" cy="297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7672320" y="245736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41" idx="3"/>
            <a:endCxn id="160" idx="1"/>
          </p:cNvCxnSpPr>
          <p:nvPr/>
        </p:nvCxnSpPr>
        <p:spPr>
          <a:xfrm flipV="1">
            <a:off x="7022880" y="2685240"/>
            <a:ext cx="649800" cy="554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7656480" y="35766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022880" y="3240000"/>
            <a:ext cx="633960" cy="565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3, 7 – 9 #1 – 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5, 7 – 10 #1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65/6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2-13T17:56:53Z</dcterms:modified>
  <cp:revision>85</cp:revision>
  <dc:subject/>
  <dc:title>Slide 1</dc:title>
</cp:coreProperties>
</file>